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A941-CBC2-458C-A2EF-AE199875C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AF9AA-F961-4557-989B-2D6D2A722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BCE9-ABA3-45B9-8E06-1A7A5FFA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76B3A-E664-47FA-A14A-3E506C5CB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8CAD-E9CA-42B9-8AAA-39C1273C0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0121-ACA5-4641-A419-5A513344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A578-1496-4FC0-A66D-F1C71F6CC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AEA5B-BEDD-43F4-B981-BAF29774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465D-F499-4F9F-AE85-251D6B55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EA407-3929-437C-8B06-2256E0E25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3694-66CB-443C-B070-CAAF066A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5317-6B86-4859-95AD-B54E0753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99864-4833-47D9-8044-E69966B86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3EFC-C6A4-4DB4-8A1E-5EAE4F6E7BC3}" type="datetime">
              <a:rPr b="0" lang="en-US" sz="1000" spc="-1" strike="noStrike">
                <a:solidFill>
                  <a:srgbClr val="000099"/>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24B2-7651-4B64-BCD7-447111395069}"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3B59-034B-4903-B298-CBBC1F4B8E06}"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99B2-0318-4AAC-ABEB-54EB3FF78C1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E101-52FC-4DF7-B60E-602F2A4F633E}"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9EAB-898C-4FB7-A29F-5317BD4A8FF1}"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248A-8E28-46EC-AADD-0C62855D507A}"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F87-AA0E-44A2-86AB-067BEED5AA4B}"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7833-60A5-4D4C-BC93-9B0786470476}"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9899-8F78-4BD0-8BC7-C074791CBC6D}"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BA91-0EAE-4C4E-A30C-1B5EAFFB63E7}"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1882-755B-4513-9BFA-79B871A7B9DC}"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7F53-0792-460F-811B-E464EE4FF735}"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AB62-3A76-4535-BE71-EDDC8A6FE005}"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9EBA-3A22-42B9-801E-75349068CA21}"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8A36-8B93-4118-B9EE-77D77E3A4A3C}"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9143-FC76-42B3-AF87-ADFEEE56F267}"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CA22-61BB-47B7-B01A-2921DECA1152}"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